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68708-1EF4-44DB-9843-942C7C735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EE6EC-91C4-4E53-9117-349095697B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54F98-DAF5-4C8C-AF27-B6D1C2852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47E0E-78A2-48E2-AC92-2A665895E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7F95C-3950-4B22-95BD-3B9AB94198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304F9-5DF1-41ED-BC2C-A89E102DC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A866E-8938-4528-8C0C-E5DEB17B0C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E19E1-8839-4E65-B107-AD52124F3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E6F7A-29CB-41D1-8179-1CA29B5A27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D37EA-192B-41E4-9BB9-62A9EBA9B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BBEF9-256E-4B2F-AC17-45B3EEEFB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82F7E-0F30-43D4-BD7B-B80F79CDD6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F83F0-5B0D-49CD-8CC6-48D9E1D270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8FEAD-F1D9-4D20-B706-31B9EA0C3C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A0A82-707A-40C9-87D7-F9940E6ADA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A786-824A-4D2C-8A60-77D8AA5EA08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03EA-3215-43FC-BA30-0C3102F2FCD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3B9C-748D-415C-BE22-DFFDDB51889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0EE4-BF3A-4ED1-A927-DC107980F0C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EA43-07D2-4A0B-A0C4-6C913EE7C1B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7B15-A016-4789-A42F-9379A0F480B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A570-D46D-4416-A0DC-238A651A61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771FB-0BD9-41BF-BE0B-2C23BC3C28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6D75-0E28-48CC-B014-CA7BBDB5BE5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309F-5F6D-4D06-BFC0-DD95C7A25D6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C03A-3EF6-476C-B626-9EF4976044C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5644-5C5C-403C-ACB1-8B8E9E3E480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04FA-2688-45BF-9C13-F2FFFCB547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04EA7-9824-4518-BABC-0F4480CE70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C0DE9-E345-46FF-A7B4-71CBB379E8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9263B-6A71-4C9C-B463-82413903CD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6F71C-9636-48E8-9443-76C4A150E3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6DFD8-AAC8-4AC8-9976-E3519E222F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1C80A-DB81-47F7-B0DE-68ADD6D593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1C3FF-6AD5-4852-8EE8-A314CB1EA5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59F8E-5BBD-4977-B551-6958ED8E83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DC088-9C4E-4339-A08D-F4F1A11086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EQA Scheme Organization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2CFE-4238-470F-9856-CA55750808F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interests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im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fidentiali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cknowle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m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725B9-BEF1-49A1-B0F6-B650BF2AC47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ries, feedback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ference” role of the EQ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s and recommendation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participating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solv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recommending certai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2514600" cy="188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05320" y="4343400"/>
            <a:ext cx="5105160" cy="1641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erfect is not too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20473-BCB6-437B-92CA-14F329FAD49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 already controlled by a international EQA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involve the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i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non-contaminat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good communication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ay careful attention to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SimSun"/>
              </a:rPr>
              <a:t>Starting an EQA Program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7d"/>
                </a:solidFill>
                <a:latin typeface="Verdana"/>
                <a:ea typeface="SimSu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92E1D-34D4-42A0-8737-AA824524E6D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38680" y="20574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148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163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164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165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170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74"/>
              <p:cNvSpPr/>
              <p:nvPr/>
            </p:nvSpPr>
            <p:spPr>
              <a:xfrm>
                <a:off x="22654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173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174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179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184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188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191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197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200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203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654BD-159B-415E-AFD7-E53BD7E944E6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proficiency test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of laboratories – interlaboratory comparisons/re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on-site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F7B9B-FF71-4F6B-94D0-807D39E8BF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rior Participation (and Success!) in a PT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SimSun"/>
              </a:rPr>
              <a:t>need to subscribe to a foreig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monitor its ow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mperative and oblig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 question o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16617-716B-4351-A968-C5EA202908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Involve th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guarantees </a:t>
            </a:r>
            <a:r>
              <a:rPr b="0" lang="en-GB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ed to the institution’s 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mean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liaise with operating licensing / certification / accreditation / national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(EQA activiti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reate saving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them is wor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213372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7CA47-F386-4CD7-AF7A-4AA05A596E5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im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roficienc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, stained or uns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Gram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acid-fast bacilli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of bacterial s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nteric microorganism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Re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 (AFB, Gram, CSF,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bacterial strains if materials and technical capability is present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strain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952880" y="2362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897E4-23D0-42C0-AFB6-9CD45AE49A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mall number of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ilo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verify transport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ries for a tes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outside of the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first study with basic materials (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ries for the fir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items per parcel (minimum 2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51360" cy="2590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9759200">
            <a:off x="7238880" y="22096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CB057-1ADF-4B60-BA08-464A2E91531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SimSun"/>
              </a:rPr>
              <a:t>Start with Non-Contaminat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n the beginning, avoid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dangerous” pathoge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ntaminated s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follow national transportation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85EDB-0AE7-4A99-B3B5-251AC68AE0E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hysica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al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smal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7AAE8-19ED-4021-B0A6-4112D06FA1A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articipating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scientific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rofession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ny other with interest in 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EQ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1FD5F-61D9-473D-BB34-8C5F37BA94F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Robin Barteluk</cp:lastModifiedBy>
  <dcterms:modified xsi:type="dcterms:W3CDTF">2008-11-28T02:21:01Z</dcterms:modified>
  <cp:revision>12</cp:revision>
  <dc:subject/>
  <dc:title>EQA scheme Organization optional</dc:title>
</cp:coreProperties>
</file>